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67B-2A69-4FD3-89A1-190195F9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772C-0B1A-455E-83A0-4A26BEF9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DB83-D0A1-462A-BDB6-69D898EB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B860-42ED-4E0C-B340-DEA09E0C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9D1E-BBD9-474A-89CE-B750B48B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10B-B15F-482E-886A-FC36F9FF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C7CF-5A7A-42CD-A865-096719E5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8581-3C58-4807-B5E6-E7D287DA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874B-DE85-4F79-8EE5-49E548D9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0153-5273-47EF-8C31-875EE679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4A5-29DE-462E-B620-F3BC26EC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E8B-B1A9-4F7F-B197-14488F43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1017-FC63-4A79-B74B-F0F7AD35E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932600" y="6256440"/>
            <a:ext cx="525600" cy="525240"/>
          </a:xfrm>
          <a:custGeom>
            <a:avLst/>
            <a:gdLst>
              <a:gd name="textAreaLeft" fmla="*/ 131400 w 525600"/>
              <a:gd name="textAreaRight" fmla="*/ 394560 w 525600"/>
              <a:gd name="textAreaTop" fmla="*/ 131400 h 525240"/>
              <a:gd name="textAreaBottom" fmla="*/ 394200 h 52524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16215" y="5400"/>
                </a:lnTo>
                <a:lnTo>
                  <a:pt x="5400" y="5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16215" y="16200"/>
                </a:lnTo>
                <a:lnTo>
                  <a:pt x="16215" y="5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15" y="16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15" h="21600">
                <a:moveTo>
                  <a:pt x="6782" y="10800"/>
                </a:moveTo>
                <a:lnTo>
                  <a:pt x="14832" y="6775"/>
                </a:lnTo>
                <a:lnTo>
                  <a:pt x="14832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8534520" y="6256440"/>
            <a:ext cx="525240" cy="525240"/>
          </a:xfrm>
          <a:custGeom>
            <a:avLst/>
            <a:gdLst>
              <a:gd name="textAreaLeft" fmla="*/ 131400 w 525240"/>
              <a:gd name="textAreaRight" fmla="*/ 394200 w 525240"/>
              <a:gd name="textAreaTop" fmla="*/ 131400 h 525240"/>
              <a:gd name="textAreaBottom" fmla="*/ 394200 h 52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19320"/>
          </a:xfrm>
          <a:prstGeom prst="rect">
            <a:avLst/>
          </a:prstGeom>
          <a:solidFill>
            <a:srgbClr val="000066"/>
          </a:solidFill>
          <a:ln w="6336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 ESCRITA COMO PRODUTO À ESCRITA COMO PROCE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3733920"/>
            <a:ext cx="6096240" cy="1169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resentação de u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posta de trabal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715000" cy="1066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cha de Planificação nº 4 (vers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AG00154_" descr=""/>
          <p:cNvPicPr/>
          <p:nvPr/>
        </p:nvPicPr>
        <p:blipFill>
          <a:blip r:embed="rId1"/>
          <a:stretch/>
        </p:blipFill>
        <p:spPr>
          <a:xfrm>
            <a:off x="7010280" y="1409760"/>
            <a:ext cx="1774800" cy="1562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16197000">
            <a:off x="2321640" y="-38880"/>
            <a:ext cx="4495680" cy="8231400"/>
          </a:xfrm>
          <a:prstGeom prst="foldedCorner">
            <a:avLst>
              <a:gd name="adj" fmla="val 19162"/>
            </a:avLst>
          </a:prstGeom>
          <a:solidFill>
            <a:srgbClr val="000066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mbra-te que não deves escrever já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u texto mas deves apenas registar 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ópicos  que queres desenvolver. Va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cando essas  ideias conforme te vã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gindo e não te preocupes, para já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 a sua organização. Se não tive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ita informação sobre o tem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s, primeiramente, fazer uma pesqui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as Enciclopédias, em livros, na Internet..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541008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cha de Planificação nº 5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fren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3886200"/>
            <a:ext cx="4572000" cy="1295280"/>
          </a:xfrm>
          <a:prstGeom prst="wedgeRoundRectCallout">
            <a:avLst>
              <a:gd name="adj1" fmla="val -56041"/>
              <a:gd name="adj2" fmla="val -122305"/>
              <a:gd name="adj3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ora ordena as ideias que registas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6765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000066"/>
                </a:solidFill>
                <a:latin typeface="Times New Roman"/>
              </a:rPr>
              <a:t>Scrip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G00154_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1774800" cy="1562400"/>
          </a:xfrm>
          <a:prstGeom prst="rect">
            <a:avLst/>
          </a:prstGeom>
          <a:ln w="0">
            <a:noFill/>
          </a:ln>
        </p:spPr>
      </p:pic>
      <p:pic>
        <p:nvPicPr>
          <p:cNvPr id="85" name="bolinhadevariascores" descr=""/>
          <p:cNvPicPr/>
          <p:nvPr/>
        </p:nvPicPr>
        <p:blipFill>
          <a:blip r:embed="rId2"/>
          <a:stretch/>
        </p:blipFill>
        <p:spPr>
          <a:xfrm>
            <a:off x="3581280" y="4218120"/>
            <a:ext cx="277920" cy="277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715000" cy="1066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cha de Planificação nº 5 (vers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G00154_" descr=""/>
          <p:cNvPicPr/>
          <p:nvPr/>
        </p:nvPicPr>
        <p:blipFill>
          <a:blip r:embed="rId1"/>
          <a:stretch/>
        </p:blipFill>
        <p:spPr>
          <a:xfrm>
            <a:off x="7064280" y="1257480"/>
            <a:ext cx="1774800" cy="1562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16197000">
            <a:off x="2172240" y="-115200"/>
            <a:ext cx="4800600" cy="8231040"/>
          </a:xfrm>
          <a:prstGeom prst="foldedCorner">
            <a:avLst>
              <a:gd name="adj" fmla="val 19162"/>
            </a:avLst>
          </a:prstGeom>
          <a:solidFill>
            <a:srgbClr val="000066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 texto, as ideias têm de ficar b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nvolvidas, para não haver repetiçõ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saltos entre elas. Assim, das ideia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veste, pensa o que fica bem na Int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na Conclusão. Depois ordena os assu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locar no Desenvolvimento. Podes faz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 plano-guia ou um esquema,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mplo, pois são óptimas estratégias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nação dos assun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541008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cha de Planificação nº 6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fren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733920"/>
            <a:ext cx="4343400" cy="2895480"/>
          </a:xfrm>
          <a:prstGeom prst="wedgeRoundRectCallout">
            <a:avLst>
              <a:gd name="adj1" fmla="val 97699"/>
              <a:gd name="adj2" fmla="val -44518"/>
              <a:gd name="adj3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pronto! A tua planificação está esboçada. Podes passar agora à escrita do teu text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21337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000066"/>
                </a:solidFill>
                <a:latin typeface="Times New Roman"/>
              </a:rPr>
              <a:t>Scrip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AG00154_" descr=""/>
          <p:cNvPicPr/>
          <p:nvPr/>
        </p:nvPicPr>
        <p:blipFill>
          <a:blip r:embed="rId1"/>
          <a:stretch/>
        </p:blipFill>
        <p:spPr>
          <a:xfrm>
            <a:off x="6835680" y="2647800"/>
            <a:ext cx="1774800" cy="1562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38080" y="1828800"/>
            <a:ext cx="5410440" cy="1219320"/>
          </a:xfrm>
          <a:prstGeom prst="wedgeRectCallout">
            <a:avLst>
              <a:gd name="adj1" fmla="val 62736"/>
              <a:gd name="adj2" fmla="val 48305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h! Não te esqueças de usar as fichas de revisã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olinhadevariascores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277560" cy="277920"/>
          </a:xfrm>
          <a:prstGeom prst="rect">
            <a:avLst/>
          </a:prstGeom>
          <a:ln w="0">
            <a:noFill/>
          </a:ln>
        </p:spPr>
      </p:pic>
      <p:pic>
        <p:nvPicPr>
          <p:cNvPr id="95" name="bolinhadevariascores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277920" cy="277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715000" cy="1066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cha de Planificação nº 6 (vers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AG00154_" descr=""/>
          <p:cNvPicPr/>
          <p:nvPr/>
        </p:nvPicPr>
        <p:blipFill>
          <a:blip r:embed="rId1"/>
          <a:stretch/>
        </p:blipFill>
        <p:spPr>
          <a:xfrm>
            <a:off x="7064280" y="1257480"/>
            <a:ext cx="1774800" cy="1562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16197000">
            <a:off x="2433240" y="-76320"/>
            <a:ext cx="4421160" cy="8231400"/>
          </a:xfrm>
          <a:prstGeom prst="foldedCorner">
            <a:avLst>
              <a:gd name="adj" fmla="val 17967"/>
            </a:avLst>
          </a:prstGeom>
          <a:solidFill>
            <a:srgbClr val="000066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ro que, à medida que fores escrevendo, vais ver que novas ideias te vão aparecendo e que outras que achaste interessantes agora não encaixam bem e vais ter que ir reformulando o plano inicial. Não te preocupes com isso, porque escrever bem não é escrever o que nos vem à cabeça. Escrever bem é transformar, reformular, alterar..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5410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INÍCIO DA REVIS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362320"/>
            <a:ext cx="4343400" cy="2514600"/>
          </a:xfrm>
          <a:prstGeom prst="wedgeRoundRectCallout">
            <a:avLst>
              <a:gd name="adj1" fmla="val 103180"/>
              <a:gd name="adj2" fmla="val -13634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empre que escreveres uma frase, pára e usa as fichas de revisã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0" y="21337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Scrip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G00154_" descr=""/>
          <p:cNvPicPr/>
          <p:nvPr/>
        </p:nvPicPr>
        <p:blipFill>
          <a:blip r:embed="rId1"/>
          <a:stretch/>
        </p:blipFill>
        <p:spPr>
          <a:xfrm>
            <a:off x="6835680" y="2647800"/>
            <a:ext cx="1774800" cy="1562400"/>
          </a:xfrm>
          <a:prstGeom prst="rect">
            <a:avLst/>
          </a:prstGeom>
          <a:ln w="0">
            <a:noFill/>
          </a:ln>
        </p:spPr>
      </p:pic>
      <p:pic>
        <p:nvPicPr>
          <p:cNvPr id="103" name="bolinha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291960" cy="29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5410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Ficha de Revisão nº 1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(fren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362320"/>
            <a:ext cx="4343400" cy="1371600"/>
          </a:xfrm>
          <a:prstGeom prst="wedgeRoundRectCallout">
            <a:avLst>
              <a:gd name="adj1" fmla="val 103180"/>
              <a:gd name="adj2" fmla="val 16666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erifica se há palavras repetida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0" y="21337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Scrip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AG00154_" descr=""/>
          <p:cNvPicPr/>
          <p:nvPr/>
        </p:nvPicPr>
        <p:blipFill>
          <a:blip r:embed="rId1"/>
          <a:stretch/>
        </p:blipFill>
        <p:spPr>
          <a:xfrm>
            <a:off x="6835680" y="2647800"/>
            <a:ext cx="1774800" cy="1562400"/>
          </a:xfrm>
          <a:prstGeom prst="rect">
            <a:avLst/>
          </a:prstGeom>
          <a:ln w="0">
            <a:noFill/>
          </a:ln>
        </p:spPr>
      </p:pic>
      <p:pic>
        <p:nvPicPr>
          <p:cNvPr id="108" name="bolinha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291960" cy="29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715000" cy="1066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Ficha de Revisão nº 1 (vers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AG00154_" descr=""/>
          <p:cNvPicPr/>
          <p:nvPr/>
        </p:nvPicPr>
        <p:blipFill>
          <a:blip r:embed="rId1"/>
          <a:stretch/>
        </p:blipFill>
        <p:spPr>
          <a:xfrm>
            <a:off x="7064280" y="1257480"/>
            <a:ext cx="1774800" cy="1562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16197000">
            <a:off x="2433240" y="-1800"/>
            <a:ext cx="4421160" cy="8231400"/>
          </a:xfrm>
          <a:prstGeom prst="foldedCorner">
            <a:avLst>
              <a:gd name="adj" fmla="val 17967"/>
            </a:avLst>
          </a:prstGeom>
          <a:solidFill>
            <a:srgbClr val="ff99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É claro que, às vezes, as repetições até ficam bem mas outras vezes não. Tens que ver o tipo de texto que estás a fazer e sentir se isso está bem ou não. Se precisares de substituir a repetição, podes usar um sinónimo, um pronome, uma expressão equivalente ou, simplesmente, retirar a palavra repeti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5410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Ficha de Revisão nº 2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(fren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3657600"/>
            <a:ext cx="4343400" cy="2438280"/>
          </a:xfrm>
          <a:prstGeom prst="wedgeRoundRectCallout">
            <a:avLst>
              <a:gd name="adj1" fmla="val 64106"/>
              <a:gd name="adj2" fmla="val -75259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frase está bem clara? Quem for ler, perceberá bem o queres transmiti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29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Scrip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AG00154_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1774800" cy="1562040"/>
          </a:xfrm>
          <a:prstGeom prst="rect">
            <a:avLst/>
          </a:prstGeom>
          <a:ln w="0">
            <a:noFill/>
          </a:ln>
        </p:spPr>
      </p:pic>
      <p:pic>
        <p:nvPicPr>
          <p:cNvPr id="116" name="bolinha" descr=""/>
          <p:cNvPicPr/>
          <p:nvPr/>
        </p:nvPicPr>
        <p:blipFill>
          <a:blip r:embed="rId2"/>
          <a:stretch/>
        </p:blipFill>
        <p:spPr>
          <a:xfrm>
            <a:off x="1841400" y="3962520"/>
            <a:ext cx="292320" cy="29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715000" cy="1066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Ficha de Revisão nº 2 (vers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AG00154_" descr=""/>
          <p:cNvPicPr/>
          <p:nvPr/>
        </p:nvPicPr>
        <p:blipFill>
          <a:blip r:embed="rId1"/>
          <a:stretch/>
        </p:blipFill>
        <p:spPr>
          <a:xfrm>
            <a:off x="7064280" y="1257480"/>
            <a:ext cx="1774800" cy="1562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16197000">
            <a:off x="2433240" y="-76320"/>
            <a:ext cx="4421160" cy="8231400"/>
          </a:xfrm>
          <a:prstGeom prst="foldedCorner">
            <a:avLst>
              <a:gd name="adj" fmla="val 17967"/>
            </a:avLst>
          </a:prstGeom>
          <a:solidFill>
            <a:srgbClr val="ff99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o escreveres, faz um esforço para te colocares no lugar de quem vai ler. Lembra-te que o destinatário não te vai poder fazer perguntas para pedir esclarecimentos. Não te esqueças também de que há coisas que tu podes saber e que o leitor do teu texto não e, por isso, deverás explicar tudo direitinh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981440"/>
          </a:xfrm>
          <a:prstGeom prst="rect">
            <a:avLst/>
          </a:prstGeom>
          <a:solidFill>
            <a:srgbClr val="000066"/>
          </a:solidFill>
          <a:ln w="6336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ste é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CRIPT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 amigo que te va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judar a escre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276720"/>
            <a:ext cx="3962520" cy="3124080"/>
          </a:xfrm>
          <a:prstGeom prst="wedgeRoundRectCallout">
            <a:avLst>
              <a:gd name="adj1" fmla="val 109935"/>
              <a:gd name="adj2" fmla="val -82620"/>
              <a:gd name="adj3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PT" sz="2800" spc="-1" strike="noStrike">
                <a:solidFill>
                  <a:srgbClr val="ffffff"/>
                </a:solidFill>
                <a:latin typeface="Times New Roman"/>
              </a:rPr>
              <a:t>Olá! Eu chamo-me </a:t>
            </a: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Scripti</a:t>
            </a:r>
            <a:r>
              <a:rPr b="1" lang="pt-PT" sz="2800" spc="-1" strike="noStrike">
                <a:solidFill>
                  <a:srgbClr val="ffffff"/>
                </a:solidFill>
                <a:latin typeface="Times New Roman"/>
              </a:rPr>
              <a:t> porque gosto muito de escrever.  Segue as minhas instruções e vais ver que é diverti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AG00154_" descr=""/>
          <p:cNvPicPr/>
          <p:nvPr/>
        </p:nvPicPr>
        <p:blipFill>
          <a:blip r:embed="rId1"/>
          <a:stretch/>
        </p:blipFill>
        <p:spPr>
          <a:xfrm>
            <a:off x="6248520" y="304920"/>
            <a:ext cx="1774800" cy="1562040"/>
          </a:xfrm>
          <a:prstGeom prst="rect">
            <a:avLst/>
          </a:prstGeom>
          <a:ln w="0">
            <a:noFill/>
          </a:ln>
        </p:spPr>
      </p:pic>
      <p:pic>
        <p:nvPicPr>
          <p:cNvPr id="48" name="bolinhadevariascores" descr=""/>
          <p:cNvPicPr/>
          <p:nvPr/>
        </p:nvPicPr>
        <p:blipFill>
          <a:blip r:embed="rId2"/>
          <a:stretch/>
        </p:blipFill>
        <p:spPr>
          <a:xfrm>
            <a:off x="582480" y="3532320"/>
            <a:ext cx="277920" cy="277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5410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Ficha de Revisão nº 3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(fren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3505320"/>
            <a:ext cx="3962520" cy="2590560"/>
          </a:xfrm>
          <a:prstGeom prst="wedgeRoundRectCallout">
            <a:avLst>
              <a:gd name="adj1" fmla="val -86861"/>
              <a:gd name="adj2" fmla="val -73101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frase está demasiado simplista? Poderia ser enriquecida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909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Scrip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AG00154_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1774800" cy="1562400"/>
          </a:xfrm>
          <a:prstGeom prst="rect">
            <a:avLst/>
          </a:prstGeom>
          <a:ln w="0">
            <a:noFill/>
          </a:ln>
        </p:spPr>
      </p:pic>
      <p:pic>
        <p:nvPicPr>
          <p:cNvPr id="124" name="bolinha" descr=""/>
          <p:cNvPicPr/>
          <p:nvPr/>
        </p:nvPicPr>
        <p:blipFill>
          <a:blip r:embed="rId2"/>
          <a:stretch/>
        </p:blipFill>
        <p:spPr>
          <a:xfrm>
            <a:off x="3822840" y="3822840"/>
            <a:ext cx="291960" cy="29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715000" cy="1066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Ficha de Revisão nº 3 (vers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AG00154_" descr=""/>
          <p:cNvPicPr/>
          <p:nvPr/>
        </p:nvPicPr>
        <p:blipFill>
          <a:blip r:embed="rId1"/>
          <a:stretch/>
        </p:blipFill>
        <p:spPr>
          <a:xfrm>
            <a:off x="7064280" y="1409760"/>
            <a:ext cx="1774800" cy="1562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16197000">
            <a:off x="2699280" y="-191520"/>
            <a:ext cx="3886200" cy="8231040"/>
          </a:xfrm>
          <a:prstGeom prst="foldedCorner">
            <a:avLst>
              <a:gd name="adj" fmla="val 17967"/>
            </a:avLst>
          </a:prstGeom>
          <a:solidFill>
            <a:srgbClr val="ff99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á muitas maneiras de tornar uma frase mais agradável: colocar um adjectivo, utilizar um advérbio expressivo, recorrer a uma comparação ou a uma metáfor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É claro que a utilização desses recursos depende do tipo de texto que estás a escrever. Assim, num texto expressivo, isso é mais importante do que, por exemplo, num texto de carácter informativ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5410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Ficha de Revisão nº 4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(fren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2362320"/>
            <a:ext cx="3505320" cy="2971800"/>
          </a:xfrm>
          <a:prstGeom prst="wedgeRoundRectCallout">
            <a:avLst>
              <a:gd name="adj1" fmla="val 101175"/>
              <a:gd name="adj2" fmla="val 1870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pontuaçã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stá de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cordo com o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que quer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ransmitir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5029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Scrip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G00154_" descr=""/>
          <p:cNvPicPr/>
          <p:nvPr/>
        </p:nvPicPr>
        <p:blipFill>
          <a:blip r:embed="rId1"/>
          <a:stretch/>
        </p:blipFill>
        <p:spPr>
          <a:xfrm>
            <a:off x="6172200" y="3429000"/>
            <a:ext cx="1774800" cy="1562040"/>
          </a:xfrm>
          <a:prstGeom prst="rect">
            <a:avLst/>
          </a:prstGeom>
          <a:ln w="0">
            <a:noFill/>
          </a:ln>
        </p:spPr>
      </p:pic>
      <p:pic>
        <p:nvPicPr>
          <p:cNvPr id="132" name="bolinha" descr=""/>
          <p:cNvPicPr/>
          <p:nvPr/>
        </p:nvPicPr>
        <p:blipFill>
          <a:blip r:embed="rId2"/>
          <a:stretch/>
        </p:blipFill>
        <p:spPr>
          <a:xfrm>
            <a:off x="1447920" y="2666880"/>
            <a:ext cx="291960" cy="29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715000" cy="1066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Ficha de Revisão nº 4 (vers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G00154_" descr=""/>
          <p:cNvPicPr/>
          <p:nvPr/>
        </p:nvPicPr>
        <p:blipFill>
          <a:blip r:embed="rId1"/>
          <a:stretch/>
        </p:blipFill>
        <p:spPr>
          <a:xfrm>
            <a:off x="7064280" y="1638360"/>
            <a:ext cx="1774800" cy="1562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rot="16197000">
            <a:off x="2737440" y="-153360"/>
            <a:ext cx="3809880" cy="8231040"/>
          </a:xfrm>
          <a:prstGeom prst="foldedCorner">
            <a:avLst>
              <a:gd name="adj" fmla="val 17967"/>
            </a:avLst>
          </a:prstGeom>
          <a:solidFill>
            <a:srgbClr val="ff99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Quando falamos, damos entoação às frases e o nosso ouvinte percebe se estamos a fazer uma pergunta ou a dar uma ordem, por exemplo. Quando escrevemos, isso não acontece e essa entoação tem de ser substituída pelos sinais de pontuação e, por isso, é muito importante ver se eles estarão de acordo com aquilo que queremos transmiti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5410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Ficha de Revisão nº 5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(fren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4038480"/>
            <a:ext cx="4572000" cy="2438640"/>
          </a:xfrm>
          <a:prstGeom prst="wedgeRoundRectCallout">
            <a:avLst>
              <a:gd name="adj1" fmla="val -90763"/>
              <a:gd name="adj2" fmla="val -93162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xiste ligação entre a frase que acabaste de escrever e as anterior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2529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Scrip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AG00154_" descr=""/>
          <p:cNvPicPr/>
          <p:nvPr/>
        </p:nvPicPr>
        <p:blipFill>
          <a:blip r:embed="rId1"/>
          <a:stretch/>
        </p:blipFill>
        <p:spPr>
          <a:xfrm>
            <a:off x="587520" y="1447920"/>
            <a:ext cx="1774800" cy="1562040"/>
          </a:xfrm>
          <a:prstGeom prst="rect">
            <a:avLst/>
          </a:prstGeom>
          <a:ln w="0">
            <a:noFill/>
          </a:ln>
        </p:spPr>
      </p:pic>
      <p:pic>
        <p:nvPicPr>
          <p:cNvPr id="140" name="bolinha" descr=""/>
          <p:cNvPicPr/>
          <p:nvPr/>
        </p:nvPicPr>
        <p:blipFill>
          <a:blip r:embed="rId2"/>
          <a:stretch/>
        </p:blipFill>
        <p:spPr>
          <a:xfrm>
            <a:off x="3048120" y="4343400"/>
            <a:ext cx="291960" cy="29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715000" cy="1066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Ficha de Revisão nº 5 (vers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AG00154_" descr=""/>
          <p:cNvPicPr/>
          <p:nvPr/>
        </p:nvPicPr>
        <p:blipFill>
          <a:blip r:embed="rId1"/>
          <a:stretch/>
        </p:blipFill>
        <p:spPr>
          <a:xfrm>
            <a:off x="7064280" y="1638360"/>
            <a:ext cx="1774800" cy="1562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16197000">
            <a:off x="2737440" y="-153360"/>
            <a:ext cx="3809880" cy="8231040"/>
          </a:xfrm>
          <a:prstGeom prst="foldedCorner">
            <a:avLst>
              <a:gd name="adj" fmla="val 17967"/>
            </a:avLst>
          </a:prstGeom>
          <a:solidFill>
            <a:srgbClr val="ff99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m texto tem de estar coeso, ou seja, com as ideias bem ligadas entre si. Por isso, não te podes esquecer daquelas palavras ou expressões, a que às vezes se chama «articuladores», que estabelecem a ligação entre as ideias. Lembra-te que escrever bem não é, simplesmente, colocar frases umas ao lado das outras. É preciso que haja um encadeamento entre el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5410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Ficha de Revisão nº 6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(fren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3886200"/>
            <a:ext cx="7467840" cy="2438280"/>
          </a:xfrm>
          <a:prstGeom prst="wedgeRoundRectCallout">
            <a:avLst>
              <a:gd name="adj1" fmla="val -1148"/>
              <a:gd name="adj2" fmla="val -89907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Já acabaste de escrever? Relê o texto todo, se possível em voz alta, e mantém-te atento ao que poderá estar menos bem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2514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Scrip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AG00154_" descr=""/>
          <p:cNvPicPr/>
          <p:nvPr/>
        </p:nvPicPr>
        <p:blipFill>
          <a:blip r:embed="rId1"/>
          <a:stretch/>
        </p:blipFill>
        <p:spPr>
          <a:xfrm>
            <a:off x="3684600" y="1523880"/>
            <a:ext cx="1774800" cy="1562400"/>
          </a:xfrm>
          <a:prstGeom prst="rect">
            <a:avLst/>
          </a:prstGeom>
          <a:ln w="0">
            <a:noFill/>
          </a:ln>
        </p:spPr>
      </p:pic>
      <p:pic>
        <p:nvPicPr>
          <p:cNvPr id="148" name="bolinha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292320" cy="29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715000" cy="1066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Ficha de Revisão nº 6 (vers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AG00154_" descr=""/>
          <p:cNvPicPr/>
          <p:nvPr/>
        </p:nvPicPr>
        <p:blipFill>
          <a:blip r:embed="rId1"/>
          <a:stretch/>
        </p:blipFill>
        <p:spPr>
          <a:xfrm>
            <a:off x="7064280" y="1866960"/>
            <a:ext cx="1774800" cy="15620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6197000">
            <a:off x="2963520" y="-77400"/>
            <a:ext cx="3354480" cy="8231040"/>
          </a:xfrm>
          <a:prstGeom prst="foldedCorner">
            <a:avLst>
              <a:gd name="adj" fmla="val 17967"/>
            </a:avLst>
          </a:prstGeom>
          <a:solidFill>
            <a:srgbClr val="ff99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abias que, ao lermos em voz alta, nos apercebemos mais facilmente dos aspectos que não estão bem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urante a revisão, não te prendas apenas aos erros de ortografia. Procura manter-te também atento  à construção das frases e ao encadeamento das ideias. Não tenhas receio de riscar e fazer emend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3505320" y="2438280"/>
            <a:ext cx="2171520" cy="1371600"/>
          </a:xfrm>
          <a:custGeom>
            <a:avLst/>
            <a:gdLst>
              <a:gd name="textAreaLeft" fmla="*/ 0 w 2171520"/>
              <a:gd name="textAreaRight" fmla="*/ 2171880 w 217152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34194" h="21600">
                <a:moveTo>
                  <a:pt x="0" y="0"/>
                </a:moveTo>
                <a:lnTo>
                  <a:pt x="34194" y="0"/>
                </a:lnTo>
                <a:lnTo>
                  <a:pt x="34194" y="21600"/>
                </a:lnTo>
                <a:lnTo>
                  <a:pt x="0" y="21600"/>
                </a:lnTo>
                <a:close/>
              </a:path>
              <a:path fill="lightenLess" w="34194" h="21600">
                <a:moveTo>
                  <a:pt x="0" y="0"/>
                </a:moveTo>
                <a:lnTo>
                  <a:pt x="34194" y="0"/>
                </a:lnTo>
                <a:lnTo>
                  <a:pt x="34194" y="0"/>
                </a:lnTo>
                <a:lnTo>
                  <a:pt x="0" y="0"/>
                </a:lnTo>
                <a:close/>
              </a:path>
              <a:path fill="darken" w="34194" h="21600">
                <a:moveTo>
                  <a:pt x="34194" y="0"/>
                </a:moveTo>
                <a:lnTo>
                  <a:pt x="34194" y="21600"/>
                </a:lnTo>
                <a:lnTo>
                  <a:pt x="34194" y="21600"/>
                </a:lnTo>
                <a:lnTo>
                  <a:pt x="34194" y="0"/>
                </a:lnTo>
                <a:close/>
              </a:path>
              <a:path fill="darkenLess" w="34194" h="21600">
                <a:moveTo>
                  <a:pt x="34194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4194" y="21600"/>
                </a:lnTo>
                <a:close/>
              </a:path>
              <a:path fill="lighten" w="34194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34194" h="21600">
                <a:moveTo>
                  <a:pt x="21117" y="10800"/>
                </a:moveTo>
                <a:lnTo>
                  <a:pt x="9047" y="18850"/>
                </a:lnTo>
                <a:lnTo>
                  <a:pt x="9047" y="2750"/>
                </a:lnTo>
                <a:close/>
              </a:path>
              <a:path fill="darken" w="34194" h="21600">
                <a:moveTo>
                  <a:pt x="23237" y="2750"/>
                </a:moveTo>
                <a:lnTo>
                  <a:pt x="23237" y="18850"/>
                </a:lnTo>
                <a:lnTo>
                  <a:pt x="25147" y="18850"/>
                </a:lnTo>
                <a:lnTo>
                  <a:pt x="25147" y="275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51973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sa Maria Pires Março d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66960" y="304560"/>
            <a:ext cx="541008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cha de Planificação nº 1 (fren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267080"/>
            <a:ext cx="4572000" cy="1295640"/>
          </a:xfrm>
          <a:prstGeom prst="wedgeRoundRectCallout">
            <a:avLst>
              <a:gd name="adj1" fmla="val -53439"/>
              <a:gd name="adj2" fmla="val -143629"/>
              <a:gd name="adj3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Que tipo de texto vais escrev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4382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000066"/>
                </a:solidFill>
                <a:latin typeface="Times New Roman"/>
              </a:rPr>
              <a:t>Scrip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G00154_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1774800" cy="1562040"/>
          </a:xfrm>
          <a:prstGeom prst="rect">
            <a:avLst/>
          </a:prstGeom>
          <a:ln w="0">
            <a:noFill/>
          </a:ln>
        </p:spPr>
      </p:pic>
      <p:pic>
        <p:nvPicPr>
          <p:cNvPr id="53" name="bolinhadevariascores" descr=""/>
          <p:cNvPicPr/>
          <p:nvPr/>
        </p:nvPicPr>
        <p:blipFill>
          <a:blip r:embed="rId2"/>
          <a:stretch/>
        </p:blipFill>
        <p:spPr>
          <a:xfrm>
            <a:off x="2590920" y="4599000"/>
            <a:ext cx="277560" cy="277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541008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cha de Planificação nº 1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vers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G00154_" descr=""/>
          <p:cNvPicPr/>
          <p:nvPr/>
        </p:nvPicPr>
        <p:blipFill>
          <a:blip r:embed="rId1"/>
          <a:stretch/>
        </p:blipFill>
        <p:spPr>
          <a:xfrm>
            <a:off x="6988320" y="1638360"/>
            <a:ext cx="1774800" cy="1562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16197000">
            <a:off x="2473200" y="36000"/>
            <a:ext cx="4118040" cy="8153280"/>
          </a:xfrm>
          <a:prstGeom prst="foldedCorner">
            <a:avLst>
              <a:gd name="adj" fmla="val 19162"/>
            </a:avLst>
          </a:prstGeom>
          <a:solidFill>
            <a:srgbClr val="000066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4856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questão é muito importante po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da  tipo de texto tem as suas característic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exemplo, uma notícia não se escreve 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ma maneira que uma car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não estiveres bem certo das característ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teu texto, informa-te junto do teu profess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faz uma pesqu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algn="just"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algn="just"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541008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cha de Planificação nº 2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fren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3505320"/>
            <a:ext cx="4572000" cy="1981080"/>
          </a:xfrm>
          <a:prstGeom prst="wedgeRoundRectCallout">
            <a:avLst>
              <a:gd name="adj1" fmla="val -2569"/>
              <a:gd name="adj2" fmla="val -113300"/>
              <a:gd name="adj3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Quem vai ser o destinatário do teu texto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25290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000066"/>
                </a:solidFill>
                <a:latin typeface="Times New Roman"/>
              </a:rPr>
              <a:t>Scrip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G00154_" descr=""/>
          <p:cNvPicPr/>
          <p:nvPr/>
        </p:nvPicPr>
        <p:blipFill>
          <a:blip r:embed="rId1"/>
          <a:stretch/>
        </p:blipFill>
        <p:spPr>
          <a:xfrm>
            <a:off x="5235480" y="1371600"/>
            <a:ext cx="1774800" cy="1562040"/>
          </a:xfrm>
          <a:prstGeom prst="rect">
            <a:avLst/>
          </a:prstGeom>
          <a:ln w="0">
            <a:noFill/>
          </a:ln>
        </p:spPr>
      </p:pic>
      <p:pic>
        <p:nvPicPr>
          <p:cNvPr id="61" name="bolinhadevariascores" descr=""/>
          <p:cNvPicPr/>
          <p:nvPr/>
        </p:nvPicPr>
        <p:blipFill>
          <a:blip r:embed="rId2"/>
          <a:stretch/>
        </p:blipFill>
        <p:spPr>
          <a:xfrm>
            <a:off x="2438280" y="3809880"/>
            <a:ext cx="277920" cy="277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571500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cha de Planificação nº 2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vers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G00154_" descr=""/>
          <p:cNvPicPr/>
          <p:nvPr/>
        </p:nvPicPr>
        <p:blipFill>
          <a:blip r:embed="rId1"/>
          <a:stretch/>
        </p:blipFill>
        <p:spPr>
          <a:xfrm>
            <a:off x="6934320" y="1676520"/>
            <a:ext cx="1774800" cy="1562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16197000">
            <a:off x="2435040" y="1080"/>
            <a:ext cx="4194360" cy="8153280"/>
          </a:xfrm>
          <a:prstGeom prst="foldedCorner">
            <a:avLst>
              <a:gd name="adj" fmla="val 19162"/>
            </a:avLst>
          </a:prstGeom>
          <a:solidFill>
            <a:srgbClr val="000066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4856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é outra questão fundamen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não podes usar a mesma lingu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screveres a um colega ou se escreveres a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da Câmara do teu município, não é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bém tens que ter em atenção que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inatário pode não saber as mesmas coi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tu sabes  e, por isso, tens de explicar tu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itinho para que se perceba bem o que f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creven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algn="just"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algn="just">
              <a:tabLst>
                <a:tab algn="l" pos="0"/>
                <a:tab algn="l" pos="7437600"/>
                <a:tab algn="l" pos="8458200"/>
                <a:tab algn="l" pos="9515520"/>
                <a:tab algn="l" pos="10572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541008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cha de Planificação nº 3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fren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733920"/>
            <a:ext cx="4724280" cy="1523880"/>
          </a:xfrm>
          <a:prstGeom prst="wedgeRoundRectCallout">
            <a:avLst>
              <a:gd name="adj1" fmla="val -43212"/>
              <a:gd name="adj2" fmla="val -133648"/>
              <a:gd name="adj3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Que objectivos é que pretendes atingir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819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000066"/>
                </a:solidFill>
                <a:latin typeface="Times New Roman"/>
              </a:rPr>
              <a:t>Scrip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AG00154_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1774800" cy="1562400"/>
          </a:xfrm>
          <a:prstGeom prst="rect">
            <a:avLst/>
          </a:prstGeom>
          <a:ln w="0">
            <a:noFill/>
          </a:ln>
        </p:spPr>
      </p:pic>
      <p:pic>
        <p:nvPicPr>
          <p:cNvPr id="69" name="bolinhadevariascores" descr=""/>
          <p:cNvPicPr/>
          <p:nvPr/>
        </p:nvPicPr>
        <p:blipFill>
          <a:blip r:embed="rId2"/>
          <a:stretch/>
        </p:blipFill>
        <p:spPr>
          <a:xfrm>
            <a:off x="3124080" y="4038480"/>
            <a:ext cx="277920" cy="277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715000" cy="1066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cha de Planificação nº 3 (vers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AG00154_" descr=""/>
          <p:cNvPicPr/>
          <p:nvPr/>
        </p:nvPicPr>
        <p:blipFill>
          <a:blip r:embed="rId1"/>
          <a:stretch/>
        </p:blipFill>
        <p:spPr>
          <a:xfrm>
            <a:off x="7064280" y="1257480"/>
            <a:ext cx="1774800" cy="1562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16197000">
            <a:off x="2130840" y="-228960"/>
            <a:ext cx="5029200" cy="8231040"/>
          </a:xfrm>
          <a:prstGeom prst="foldedCorner">
            <a:avLst>
              <a:gd name="adj" fmla="val 19162"/>
            </a:avLst>
          </a:prstGeom>
          <a:solidFill>
            <a:srgbClr val="000066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do escrevemos alguma cois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zemo-lo sempre com alguns objectiv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r, alertar, pedir, exprimir sentimentos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isso, a forma como escrevemos tem de e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acordo com essas intenções. Se quiseres fa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a notícia, terás de usar uma linguag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iva e muito clara mas se pretendes alert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guém para o perigo do tabaco, por exemplo, te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er apelativo e usar argumentos que convenç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7600"/>
                <a:tab algn="l" pos="800568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541008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cha de Planificação nº 4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fren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905120"/>
            <a:ext cx="6781680" cy="2361960"/>
          </a:xfrm>
          <a:prstGeom prst="wedgeRoundRectCallout">
            <a:avLst>
              <a:gd name="adj1" fmla="val 47379"/>
              <a:gd name="adj2" fmla="val 77754"/>
              <a:gd name="adj3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ora que já pensaste no tipo de texto, no destinatário e nos objectivos, começa a registar aquilo que irás escrev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41292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000066"/>
                </a:solidFill>
                <a:latin typeface="Times New Roman"/>
              </a:rPr>
              <a:t>Scrip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AG00154_" descr=""/>
          <p:cNvPicPr/>
          <p:nvPr/>
        </p:nvPicPr>
        <p:blipFill>
          <a:blip r:embed="rId1"/>
          <a:stretch/>
        </p:blipFill>
        <p:spPr>
          <a:xfrm>
            <a:off x="6705720" y="4648320"/>
            <a:ext cx="1774800" cy="1562040"/>
          </a:xfrm>
          <a:prstGeom prst="rect">
            <a:avLst/>
          </a:prstGeom>
          <a:ln w="0">
            <a:noFill/>
          </a:ln>
        </p:spPr>
      </p:pic>
      <p:pic>
        <p:nvPicPr>
          <p:cNvPr id="77" name="bolinhadevariascores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277920" cy="277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0T13:08:36Z</dcterms:created>
  <dc:creator>Carlos Pires</dc:creator>
  <dc:description/>
  <dc:language>en-US</dc:language>
  <cp:lastModifiedBy>Carlos Pires</cp:lastModifiedBy>
  <dcterms:modified xsi:type="dcterms:W3CDTF">2002-03-16T23:27:49Z</dcterms:modified>
  <cp:revision>78</cp:revision>
  <dc:subject/>
  <dc:title>FICHA P1</dc:title>
</cp:coreProperties>
</file>